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21C0-B72C-40A5-90FB-8860B0FA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68AF-9644-4A25-A3F5-B34BEFB5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2028-2539-483D-BCAE-6451D1DA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338D-D303-4F7C-8466-8F95F956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A5F7-FB36-4D33-B560-5E541B15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9B4D-A774-453B-AD9A-FF70F2C5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9D2-8410-454F-BF89-A5ACE620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E2F2-65DB-47E4-8A92-073CF205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99FE-641C-4EB9-8B84-27B64761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CB48-506C-4780-A389-A427496E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460B-5033-49A7-8415-A95696EB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2424-ED6F-44E6-A2E1-1AA328F6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1CA4-5905-4B47-91AD-0287E3B14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0774855IvlDAvDgBg_ph" descr=""/>
          <p:cNvPicPr/>
          <p:nvPr/>
        </p:nvPicPr>
        <p:blipFill>
          <a:blip r:embed="rId2"/>
          <a:stretch/>
        </p:blipFill>
        <p:spPr>
          <a:xfrm>
            <a:off x="-1219320" y="25560"/>
            <a:ext cx="6019920" cy="684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34120" y="1066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0"/>
            <a:ext cx="3200400" cy="70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أرسلني يا ربّ أرسلني        وبروحك القدّوس أضرم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بين الخرافِ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بين الذئابِ</a:t>
            </a:r>
            <a:r>
              <a:rPr b="1" lang="en-US" sz="40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بين المســاكين أرسـلن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holyspiritsheep" descr=""/>
          <p:cNvPicPr/>
          <p:nvPr/>
        </p:nvPicPr>
        <p:blipFill>
          <a:blip r:embed="rId1"/>
          <a:stretch/>
        </p:blipFill>
        <p:spPr>
          <a:xfrm>
            <a:off x="-457200" y="0"/>
            <a:ext cx="62467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172200" y="304920"/>
            <a:ext cx="2743200" cy="9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ين الخِراف تضيعُ أُرجِع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ين الذئـاب تثورُ أُخضِع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جدكَ القدّوسِ يا ملكاً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راعيـاً خُطاكَ أتبعُه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ed_gallery_spirits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241960"/>
            <a:ext cx="9144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رسلني نوراً يحمي التائهينَ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خبزاً يُشبِعُ الجائعيــن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 حُبَّاً يغمُـرُ المُعوَزيـنَ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رسلني يا ربُّ أكرمـن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L4TT" descr=""/>
          <p:cNvPicPr/>
          <p:nvPr/>
        </p:nvPicPr>
        <p:blipFill>
          <a:blip r:embed="rId1"/>
          <a:stretch/>
        </p:blipFill>
        <p:spPr>
          <a:xfrm>
            <a:off x="3240" y="0"/>
            <a:ext cx="56354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638680" y="0"/>
            <a:ext cx="3505320" cy="72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نحنُ إ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 نزرعِ الحبَّ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نحنُ إ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 نقبلِ الصّلب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نحنُ إ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 نعكُسِ الربّ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رسـلني يا ربُّ أرسـلن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34:51Z</dcterms:created>
  <dc:creator>USER</dc:creator>
  <dc:description/>
  <dc:language>en-US</dc:language>
  <cp:lastModifiedBy>USER</cp:lastModifiedBy>
  <dcterms:modified xsi:type="dcterms:W3CDTF">2002-11-25T15:36:36Z</dcterms:modified>
  <cp:revision>2</cp:revision>
  <dc:subject/>
  <dc:title>PowerPoint Presentation</dc:title>
</cp:coreProperties>
</file>